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10D2-7D62-4DF5-8AF2-B14E755E8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CFE4-0C70-4199-B122-8FE634E20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eneed.nlm.nih.gov/images/dna_replication_sm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545E-ECD5-47CA-8D55-D787ED420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B80D-5737-4A74-8E81-BBDF4BFA9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081-D524-4E55-A373-0A34E4FD7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1EE6-B0A6-4D9E-A56C-CB5915EF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FBC6-B8CD-45A3-9461-B4A7246D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51D3-5498-4DD8-AE2B-063C2EC1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A72-B775-4AF7-A94D-82FDAFD3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879-51CA-4C55-8E5B-3D0AA9655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965-CAB5-4181-9F79-AC5E7767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animation: http://www.wiley.com/legacy/college/boyer/0470003790/animations/animation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ADCB-2620-4DC3-AF4F-EF27C300F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ebsite: http://www.biology.arizona.edu/molecular_bio/problem_sets/nucleic_acids/nucleic_acids_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8676-77D9-4118-A2D7-C493CE15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B9A0-8526-4C89-9722-C53C241A5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ebsite: http://www.johnkyrk.com/DNAreplic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5BA7-4067-460C-B1E6-E5AF02A8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accessexcellence.org/RC/VL/GG/possible.php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412B-94F8-4134-84E6-0E63F471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2B31-67DD-4798-BE53-A752AE6AB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3C80-9B0E-47B7-AD34-3405E025C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 page: http://highered.mheducation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old Powerpoint</a:t>
            </a:r>
            <a:r>
              <a:rPr b="0" lang="is-IS" sz="1200" spc="-1" strike="noStrike">
                <a:solidFill>
                  <a:srgbClr val="000000"/>
                </a:solidFill>
                <a:latin typeface="Arial"/>
              </a:rPr>
              <a:t>…source is not cred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9BD5-3DD7-44EB-A26A-E4AB5EFF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animation: http://highered.mheducation.com/sites/0072437316/student_view0/chapter14/anima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D277-A53F-46D3-B69D-A66D96B94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users.rcn.com/jkimball.ma.ultranet/BiologyPages/D/DNA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AE3E-267F-4ED2-8707-F0A96E67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sharonchoi-sbi4u.blogspot.com/2010/09/dna-replication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745-174B-41AA-A012-7237807A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317-0004-4C46-9056-96B67847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5AD-1E0F-4588-B72D-7F66DD71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1F8-BB15-4AB9-B938-48E21E36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259-A514-43EA-96F5-22316BF5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3B8-FBA9-4443-B85B-C6CF451F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540-C6A2-486D-9593-12A474F1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300-E5F4-41C1-899D-2B7DDAEC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1F6-15C8-4502-AD73-18B0B15C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266-D790-46C2-B744-92740C7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5F8-5733-492A-9395-E5633F69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2E1-DCD5-483E-9DC0-D1F5F8C7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F50-3AD9-45AC-8965-6DA241BB5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heli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eaks H-bonds between complementary base pairs, unwinding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-stranded binding proteins (SSB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nd to the unwound single strands of DNA to prevent the H-bonds from ref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oisomer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ieve tension caused by the unwinding of the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ut both strands and allow them to swivel around each other, then resea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nthesizes an RNA primer of 10-60 base pairs to the templat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s complementary nucleoside triphosphates in the 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ion to the RNA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800px-DATP_chemical_structure"/>
          <p:cNvPicPr/>
          <p:nvPr/>
        </p:nvPicPr>
        <p:blipFill>
          <a:blip r:embed="rId1"/>
          <a:stretch/>
        </p:blipFill>
        <p:spPr>
          <a:xfrm>
            <a:off x="5867280" y="5181480"/>
            <a:ext cx="22100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continuous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plication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gging str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uil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plication fork, and is built in short segment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azaki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moves RNA primers (from both the leading and lagging strands) and replaces them with deoxyribo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lig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Okazaki fragments into one strand, through creation of phosphodieste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Enzymes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eck new strands of DNA for errors as they are synthes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onucl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xcising incorrect nucleotides and adding the correct nucleotides to the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usually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rokaryotic DNA,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one replication ori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ukaryotic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Prokaryotic &amp; 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NA polymerase I, II, and 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n replication and repair;  in eukaryotic cells, ther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than 3 different types of DN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teractive animation with questions is a good self-study tool.  Click on “DNA Replic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ology Project” is a fantastic site hosted by the University of Arizona.  At this part of the site there are multiple-choice problem sets.  Try the problem sets on Meselson-Stahl and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cation is essential for mitotic &amp; meiotic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NA replic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 (cont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’m not a huge fan of this site, but it’s interesting to see the molecular structures of the DNA &amp; enzymes during the animation of DNA replic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-conserv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ossible"/>
          <p:cNvPicPr/>
          <p:nvPr/>
        </p:nvPicPr>
        <p:blipFill>
          <a:blip r:embed="rId1"/>
          <a:stretch/>
        </p:blipFill>
        <p:spPr>
          <a:xfrm>
            <a:off x="2373480" y="1981080"/>
            <a:ext cx="439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(195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teria in medium containing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(heavy isotope of nitrogen) for 17 generations, ensuring that bacterial DNA was labelled with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 into a medium containing only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nd allowed it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centrifuged samples of th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labelled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elson &amp; Stahl Experi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“Meselson and Stahl Experiment” animatio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Meselson &amp; Stahl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the results have been if DNA replication was conserv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estahlexp"/>
          <p:cNvPicPr/>
          <p:nvPr/>
        </p:nvPicPr>
        <p:blipFill>
          <a:blip r:embed="rId1"/>
          <a:stretch/>
        </p:blipFill>
        <p:spPr>
          <a:xfrm>
            <a:off x="2209680" y="2743200"/>
            <a:ext cx="4483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 Enzym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“How nucleotides are added in DNA replication”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2438280"/>
          <a:ext cx="6858000" cy="30481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heli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isomer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polymerase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lig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ReplicationFork"/>
          <p:cNvPicPr/>
          <p:nvPr/>
        </p:nvPicPr>
        <p:blipFill>
          <a:blip r:embed="rId1"/>
          <a:stretch/>
        </p:blipFill>
        <p:spPr>
          <a:xfrm>
            <a:off x="2550960" y="1981080"/>
            <a:ext cx="404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NA replication"/>
          <p:cNvPicPr/>
          <p:nvPr/>
        </p:nvPicPr>
        <p:blipFill>
          <a:blip r:embed="rId1"/>
          <a:stretch/>
        </p:blipFill>
        <p:spPr>
          <a:xfrm>
            <a:off x="690480" y="1981080"/>
            <a:ext cx="776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2:41:59Z</dcterms:created>
  <dc:creator>rubina khan</dc:creator>
  <dc:description/>
  <dc:language>en-US</dc:language>
  <cp:lastModifiedBy>rubina khan</cp:lastModifiedBy>
  <dcterms:modified xsi:type="dcterms:W3CDTF">2015-11-10T03:00:31Z</dcterms:modified>
  <cp:revision>135</cp:revision>
  <dc:subject/>
  <dc:title>Molecular Genetics</dc:title>
</cp:coreProperties>
</file>